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1852-7128-4EE8-A3B6-76DDA2655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D4E9-2AED-42C2-B321-929AAD626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B8E9-AFEC-4C35-A270-52BFC113F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ACBC-1842-41A8-9918-1260B2A81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CD717-4870-4643-82DB-87D469AD6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BB81A-9A3E-4B77-AA5D-C78457A36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D963D-653B-4EA9-B8F0-2C28AAFE9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B7165-E3D4-41AA-AC6B-C7F94D4F1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D2F16-3F93-4166-BCA8-4FF106936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32E8A-452A-43C3-990C-A96A82234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F84FD-33F2-4702-91ED-BCD8F4F7A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C1AC-C839-40D7-8550-114F5AE90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37455-DB15-4605-874A-2D3D6AFAB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ED943-D4E9-4167-AF7F-FB8467384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2F2CA-B960-46C7-A70F-A07CFF6D6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E8F9B-2667-4F39-92A2-C003BE6BD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E5D5B-0E0D-4864-8736-F0C249CEB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F361-75CB-4003-9A3D-50C2F95E0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4701-A793-4879-9FD4-4F732B496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1366-01C3-46E0-9E27-634830A25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77A3-68BF-4373-B0BB-FE1C87780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977A-7455-4842-988A-0B5FA8790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AFA6-EB48-4B8B-9592-D06AD1530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F9E9-893B-4DD8-83D2-E84439343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ECCCC-E818-4EF4-A74D-BCB0E966A11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00434-C75B-40BD-A986-3B50ECE49ED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ahoma"/>
              </a:rPr>
              <a:t>Rounding Off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ahoma"/>
              </a:rPr>
              <a:t>Find your number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1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ahoma"/>
              </a:rPr>
              <a:t>Look right next door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1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ahoma"/>
              </a:rPr>
              <a:t>4 or less, just ignore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1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ahoma"/>
              </a:rPr>
              <a:t>5 or more, add one more</a:t>
            </a: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0" y="-228960"/>
            <a:ext cx="9144000" cy="70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901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3.925 – 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to the nearest whole number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20000"/>
              </a:lnSpc>
              <a:spcBef>
                <a:spcPts val="901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2159.485 – 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to the nearest hundredth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20000"/>
              </a:lnSpc>
              <a:spcBef>
                <a:spcPts val="1100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57 499 – 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to the nearest thousand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20000"/>
              </a:lnSpc>
              <a:spcBef>
                <a:spcPts val="901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37.4899 - 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to the nearest thousandth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2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758 225 –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to the nearest ten thousan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609480" y="0"/>
            <a:ext cx="457200" cy="68580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362320" y="914400"/>
            <a:ext cx="380880" cy="60948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990720" y="1828800"/>
            <a:ext cx="380880" cy="60948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057400" y="2819520"/>
            <a:ext cx="380880" cy="53316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990720" y="3733920"/>
            <a:ext cx="380880" cy="53316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2438280" y="4370400"/>
            <a:ext cx="4038840" cy="248760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304920" y="4427640"/>
            <a:ext cx="18288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nswers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159.4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57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7.49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76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9T09:59:25Z</dcterms:created>
  <dc:creator>admin</dc:creator>
  <dc:description/>
  <dc:language>en-US</dc:language>
  <cp:lastModifiedBy>admin</cp:lastModifiedBy>
  <dcterms:modified xsi:type="dcterms:W3CDTF">2007-11-19T21:21:24Z</dcterms:modified>
  <cp:revision>5</cp:revision>
  <dc:subject/>
  <dc:title>Rounding off </dc:title>
</cp:coreProperties>
</file>